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13C-E41D-4415-8DF3-CF9EEBB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91C-2DC1-44AE-BA8B-A050946D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76D-C4C7-491A-974C-DE1406E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FCC-D41D-450B-84D3-B29032C7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55A-97AC-4F19-B9BD-D07A9E8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952-F692-409A-A5DB-F641B54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41F-8732-42A0-9BC5-5211586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44E-4477-4419-8B97-2DB5F411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9D5-5A86-4739-A5FF-F564EB5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5FA-A9D3-4BAA-AA83-66F66D1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F77-5BD1-4946-9B43-13EDAEE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E2A-AEDE-4A52-817D-F4546DF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0CA-BE78-4340-A351-5F887A91305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10Z</dcterms:created>
  <dc:creator> </dc:creator>
  <dc:description/>
  <dc:language>en-US</dc:language>
  <cp:lastModifiedBy> </cp:lastModifiedBy>
  <dcterms:modified xsi:type="dcterms:W3CDTF">2004-06-16T01:32:18Z</dcterms:modified>
  <cp:revision>1</cp:revision>
  <dc:subject/>
  <dc:title>注目看耶穌 (1/2)  [Look Upon Jesus]</dc:title>
</cp:coreProperties>
</file>